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56E3-E3EC-46C3-B535-D509F90D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0888-72AB-4A1B-A504-EB88DD93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EA72-91B5-479A-8450-5EDAD5EA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D064-B69E-4117-9368-4158FFFF0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2778-4AA1-4E34-A0C7-AC20C960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FE9D-F387-44D9-882B-F7B87891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1ADF-F112-477E-93EA-43F6693E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9C64-EAE5-44B0-8E96-2EC1EC72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B4CB-4ED5-4803-85F3-D7478BBA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2CAD-DFF9-489C-AC93-8F586607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F1D3-85DA-43AC-8D45-341107E9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8042-D84F-4AFA-B7EA-05CF73CD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1CDA-120B-4786-8C1C-0891FF284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fullpointsfooty.net/images/GWanganeenEss2.jpg&amp;imgrefurl=http://www.fullpointsfooty.net/wa-wh.htm&amp;h=340&amp;w=271&amp;sz=12&amp;hl=en&amp;start=10&amp;tbnid=5yINOJhTHvhtsM:&amp;tbnh=119&amp;tbnw=95&amp;prev=/images%3Fq%3DGavin%2BWanganeen%26gbv%3D2%26hl%3Den%26safe%3Dstrict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.au/imgres?imgurl=http://upload.wikimedia.org/wikipedia/commons/thumb/0/01/Footy.JPG/800px-Footy.JPG&amp;imgrefurl=http://commons.wikimedia.org/wiki/Image:Footy.JPG&amp;h=536&amp;w=800&amp;sz=63&amp;hl=en&amp;start=8&amp;tbnid=jMldd9uwSUJCTM:&amp;tbnh=96&amp;tbnw=143&amp;prev=/images%3Fq%3Dfooty%26gbv%3D2%26hl%3Den%26safe%3Dstrict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0000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19534200">
            <a:off x="1547280" y="2349360"/>
            <a:ext cx="648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erlin Sans FB"/>
              </a:rPr>
              <a:t>Gavin Wanganeen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erlin Sans FB"/>
              <a:ea typeface="Berlin Sans FB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3860640"/>
            <a:ext cx="1725840" cy="2160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26920" y="620640"/>
            <a:ext cx="2297160" cy="1541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0920" y="573408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: Mohamud Ali                    Class: 9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00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87280" y="4149720"/>
            <a:ext cx="208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vin Adrian Wanganeen was born in Mount Gambier on 18th June 197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2906640" cy="2952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 rot="19531800">
            <a:off x="3419280" y="2923920"/>
            <a:ext cx="572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elcome Gavin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cc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140360" y="5661000"/>
            <a:ext cx="4681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Narrow Special G1"/>
              </a:rPr>
              <a:t>Career Honours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Narrow Special G1"/>
              <a:ea typeface="Arial Narrow Special G1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85080" y="549360"/>
            <a:ext cx="2620800" cy="2373840"/>
            <a:chOff x="685080" y="549360"/>
            <a:chExt cx="2620800" cy="237384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807120" y="549360"/>
              <a:ext cx="1920960" cy="202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85080" y="2554920"/>
              <a:ext cx="262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993 Brownlow Meda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3440" y="3429000"/>
            <a:ext cx="2643480" cy="2797920"/>
            <a:chOff x="613440" y="3429000"/>
            <a:chExt cx="2643480" cy="2797920"/>
          </a:xfrm>
        </p:grpSpPr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823320" y="3429000"/>
              <a:ext cx="1545840" cy="23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13440" y="5858640"/>
              <a:ext cx="264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4 AFL Premiership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492360" y="333360"/>
            <a:ext cx="2229120" cy="5051160"/>
            <a:chOff x="3492360" y="333360"/>
            <a:chExt cx="2229120" cy="5051160"/>
          </a:xfrm>
        </p:grpSpPr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3492360" y="333360"/>
              <a:ext cx="2229120" cy="33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3708360" y="3644640"/>
              <a:ext cx="14781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avin Wanganeen playing for Port Adelaide in 1990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 flipH="1">
            <a:off x="8136000" y="3573360"/>
            <a:ext cx="100800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588000" y="404640"/>
            <a:ext cx="2228760" cy="4329360"/>
            <a:chOff x="6588000" y="404640"/>
            <a:chExt cx="2228760" cy="4329360"/>
          </a:xfrm>
        </p:grpSpPr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6588000" y="404640"/>
              <a:ext cx="2228760" cy="33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911640" y="4005360"/>
              <a:ext cx="187200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A young Gavin Wanganeen at Essendon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11640" y="4005360"/>
              <a:ext cx="1872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911640" y="4734000"/>
              <a:ext cx="1872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783640" y="4005360"/>
              <a:ext cx="0" cy="72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340000" y="404640"/>
            <a:ext cx="39546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ort Adelaide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"/>
          <p:cNvSpPr/>
          <p:nvPr/>
        </p:nvSpPr>
        <p:spPr>
          <a:xfrm>
            <a:off x="2050920" y="6020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rt Adelaide's first captain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Gavin Wanganeen"/>
          <p:cNvPicPr/>
          <p:nvPr/>
        </p:nvPicPr>
        <p:blipFill>
          <a:blip r:embed="rId1"/>
          <a:stretch/>
        </p:blipFill>
        <p:spPr>
          <a:xfrm>
            <a:off x="3059280" y="1989000"/>
            <a:ext cx="2454120" cy="38563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00000" y="1334880"/>
            <a:ext cx="388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nd best and fairest 199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rd best and fairest 1993,9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-Australian 1992,93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hael Tuck medal 1993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sendon premiership side 1993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sendon night premiership sides     1993,9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t Adelaide premiership side 1990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 rot="19519200">
            <a:off x="4211280" y="1341000"/>
            <a:ext cx="3471840" cy="13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chievements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651640" y="3357720"/>
            <a:ext cx="2947680" cy="2368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987640" y="1484280"/>
            <a:ext cx="360216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The End..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843280" y="3500280"/>
            <a:ext cx="3889440" cy="267984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7T03:22:31Z</dcterms:created>
  <dc:creator>Reservoir District Secondary College</dc:creator>
  <dc:description/>
  <dc:language>en-US</dc:language>
  <cp:lastModifiedBy>Reservoir District Secondary College</cp:lastModifiedBy>
  <dcterms:modified xsi:type="dcterms:W3CDTF">2008-07-17T02:31:26Z</dcterms:modified>
  <cp:revision>4</cp:revision>
  <dc:subject/>
  <dc:title>Slide 1</dc:title>
</cp:coreProperties>
</file>